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74128"/>
        <c:axId val="34500011"/>
      </c:barChart>
      <c:catAx>
        <c:axId val="99974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00011"/>
        <c:crosses val="autoZero"/>
        <c:auto val="1"/>
        <c:lblAlgn val="ctr"/>
        <c:lblOffset val="100"/>
        <c:noMultiLvlLbl val="0"/>
      </c:catAx>
      <c:valAx>
        <c:axId val="34500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74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5C5-08D0-4676-A831-9A21DA99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3C1-6553-44F3-ACE7-B7625853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B8E-EA05-40FE-A571-59714FEC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86C-F2A2-42AE-859C-776EF31C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4C9-F45E-4427-B7E9-91D2AAFD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ADE-E0F1-46EF-8D31-3E41A5CA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1E4-AC47-408E-8A1B-552C4E89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D00-C9C5-4994-A228-113F9A67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33D-8942-4033-B49F-76875F90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F07-FCCC-468C-AF39-CA41F7F3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64C-3AC6-47ED-A471-A6927BB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C89-358E-47A1-8BC9-BDBFCFC9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CE351-96B7-4134-9404-ACD3C1F766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