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82982"/>
        <c:axId val="99799156"/>
      </c:barChart>
      <c:catAx>
        <c:axId val="69982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99156"/>
        <c:crosses val="autoZero"/>
        <c:auto val="1"/>
        <c:lblAlgn val="ctr"/>
        <c:lblOffset val="100"/>
        <c:noMultiLvlLbl val="0"/>
      </c:catAx>
      <c:valAx>
        <c:axId val="997991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82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FE36-A9CD-4A40-910F-DCE6FB36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E5B3-D51B-49C5-8ABC-BF33F415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AB7-AEB8-4124-8074-A1B20CFF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024-E88C-4271-9B1E-1F2836A1F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104F-DA12-4A4C-BF7E-A40FB41E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80E2-96FC-42E6-998B-58FD322AB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556C-42E2-4A9A-B0B0-391BDE7F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6F4-DE77-4A1D-A8DA-BBE1F0A0D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58F6-E656-4DA0-9EDC-4396AAA68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072D-3ADE-43BD-8FCD-2069A2119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9A2F-79DC-48F1-8596-995B3DF86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403D-8C63-43E6-A3D8-76B95C97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5BA3E-840C-449F-94B7-ADE445AFAC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