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40148"/>
        <c:axId val="12257804"/>
      </c:barChart>
      <c:catAx>
        <c:axId val="41040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57804"/>
        <c:crosses val="autoZero"/>
        <c:auto val="1"/>
        <c:lblAlgn val="ctr"/>
        <c:lblOffset val="100"/>
        <c:noMultiLvlLbl val="0"/>
      </c:catAx>
      <c:valAx>
        <c:axId val="12257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40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6F9-CBEC-437F-98A4-1C11B067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328-B091-4449-8677-3DD7FC64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E0C-675E-4A4C-9676-0C46481F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94E-C66B-4C2D-8CE3-D44FCD42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769-C6AE-4CC3-993B-7F9598B6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7EB-1D78-411A-BF5E-9BFA302A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C90-FE69-41AD-98C7-960CD7FD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B51-EAA3-4809-A930-EB6C148D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41B-7E1E-4E4A-AA53-56C39325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487-FD3F-446D-A480-BC884768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8BC-BF97-40C1-9DB3-10975871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F4D-2B57-4CE3-A7A5-233B41E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F68F0-06CA-47A1-934E-DC0B0F3714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