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782301"/>
        <c:axId val="19206735"/>
      </c:barChart>
      <c:catAx>
        <c:axId val="897823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206735"/>
        <c:crosses val="autoZero"/>
        <c:auto val="1"/>
        <c:lblAlgn val="ctr"/>
        <c:lblOffset val="100"/>
        <c:noMultiLvlLbl val="0"/>
      </c:catAx>
      <c:valAx>
        <c:axId val="192067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7823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940C-06DA-48FF-9B34-8FC7FE2E5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4112-B3E4-4CD9-9502-E0F8280C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8962-DC75-434C-8DC9-7F32D7B01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012F-C7CA-409F-84E7-9E242D7E3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F279-7C71-4B85-AF1F-719046A6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4A1A-1AB5-4E57-B356-15727DC0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BD34-A095-4354-92C0-326183BB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126C-7EEE-4FA3-8FEA-65A963B2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EA7E-6814-4D3F-951C-AEEA6DAE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1301-4144-46F9-8FE7-594F2BE8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E1A9-4236-4B2A-8CF5-E64BFF46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F488-1B5F-4782-B283-C56AE71C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C310C-227B-4CEC-AD08-4B781D0E9F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