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6485"/>
        <c:axId val="45500207"/>
      </c:barChart>
      <c:catAx>
        <c:axId val="30596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00207"/>
        <c:crosses val="autoZero"/>
        <c:auto val="1"/>
        <c:lblAlgn val="ctr"/>
        <c:lblOffset val="100"/>
        <c:noMultiLvlLbl val="0"/>
      </c:catAx>
      <c:valAx>
        <c:axId val="45500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6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CF4-D796-43B9-98AC-08A73BAE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577-1530-4056-A3CA-9543F02C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2F0-7F70-4442-9251-6B183367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7E5-735C-45F1-868F-5E959B3B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CF9-DDB3-4BAC-9518-AEC6EBC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37F-C704-48A8-801A-18726B2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708-0281-4444-8F55-1EF21B7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AE6-F087-4F21-864B-0B80B1C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61B-D564-4F43-B412-A2A0CBEA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7AE-1EAC-4D11-A639-D6EEA74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A92-4227-4748-9D2A-DDF76C4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EBA-25B8-41F4-840D-4076D92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05EF-6D0F-4323-8B12-419717C758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