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846249"/>
        <c:axId val="79502549"/>
      </c:barChart>
      <c:catAx>
        <c:axId val="598462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02549"/>
        <c:crosses val="autoZero"/>
        <c:auto val="1"/>
        <c:lblAlgn val="ctr"/>
        <c:lblOffset val="100"/>
        <c:noMultiLvlLbl val="0"/>
      </c:catAx>
      <c:valAx>
        <c:axId val="795025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462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12B3-F0C6-49C8-9E7F-2422A00A3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96B2-F176-4C75-A073-D0A8006F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E5E5-5047-4585-A1E9-503BDFB6D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6423-D3FE-4D7C-8EF1-C41E7A88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4934-F162-42AA-9505-39C57DCF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A752-7C77-4E90-AC77-8581024C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059C-98B5-43DA-8E40-7AB05AF5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CA9A-8813-4B6C-A954-742ABA14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62DF-A121-45F8-8C25-10B8247D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65E0-382B-4C5E-959C-0EE4F8E1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12AF-D483-432C-A30B-DC51B54C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4A9E-7256-41EA-A47B-6CFB0ADD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BBB6F-7BBF-4E33-A272-A368E1F5AD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