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79428"/>
        <c:axId val="37597766"/>
      </c:barChart>
      <c:catAx>
        <c:axId val="39379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97766"/>
        <c:crosses val="autoZero"/>
        <c:auto val="1"/>
        <c:lblAlgn val="ctr"/>
        <c:lblOffset val="100"/>
        <c:noMultiLvlLbl val="0"/>
      </c:catAx>
      <c:valAx>
        <c:axId val="37597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79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962-91E0-428A-B18A-5B9745F8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BEC-FCFA-4577-9742-5D185AB6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856-6509-4CE3-B8F2-D15974C5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6E9-87FF-466F-BE97-B8C131FE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AC8-2A4C-4CE3-885E-8DFCCF3F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557-ACA8-40BA-BE63-FB347D99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350-BB40-4AE5-A3AA-A98449E4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428-B7A6-44F1-8B97-211901E8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925-754C-494D-B889-C91C98E8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481-13AF-41B8-8C02-A96BEB13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857-580E-4EFF-86C2-63A6605E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0A3-636D-4DA4-AAF9-6BAF107C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7F98F-52E2-4E00-A594-2473CE644B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