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1053"/>
        <c:axId val="97586926"/>
      </c:barChart>
      <c:catAx>
        <c:axId val="5241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86926"/>
        <c:crosses val="autoZero"/>
        <c:auto val="1"/>
        <c:lblAlgn val="ctr"/>
        <c:lblOffset val="100"/>
        <c:noMultiLvlLbl val="0"/>
      </c:catAx>
      <c:valAx>
        <c:axId val="97586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1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0E5-20D9-486D-A9C2-7D0C7E50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813-B1E2-4D4D-8067-F4DF4259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64E-B0E8-4FF3-B275-05281BED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68C-9316-49FD-87B7-D5E4F5C8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7DB-51DC-4483-9236-9E6BA2A2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FE1-0556-4DDC-AFBF-73F320A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4B4-29CD-4359-B473-8E0F5BF4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C84-92BF-4AB8-82B8-9C3C878D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12C-FCC3-4CA9-94EC-1C06546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3CC-49EB-4FC7-A483-ED438F9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DAA-CD6E-45A7-84FD-505BC7C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8EE-3007-430F-9704-88D22EC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C17E3-DF30-40D5-8E6E-A9DAEB34E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