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61274"/>
        <c:axId val="55866482"/>
      </c:barChart>
      <c:catAx>
        <c:axId val="98661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66482"/>
        <c:crosses val="autoZero"/>
        <c:auto val="1"/>
        <c:lblAlgn val="ctr"/>
        <c:lblOffset val="100"/>
        <c:noMultiLvlLbl val="0"/>
      </c:catAx>
      <c:valAx>
        <c:axId val="55866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61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8D2-1E67-49AA-B720-3D0AE23E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009-A636-435E-9964-CC8E26D8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F38-B893-43AB-BE46-8E14D81D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0F1-87AA-4C17-9A56-58A688B1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7DF-EF18-4110-8126-C8E5034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CD5-910D-4919-8F8F-37CAAB7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293-A9A2-40F1-88D1-BEE0371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FC3-20E7-493E-88A1-D8899517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5CA-3285-4C47-B977-0053211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C65-A5CD-4857-8CEB-3DA9ECB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E2F-E7FA-423D-A6A8-82D6B44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7F2-EF91-49B1-8FC7-CBA03E6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2BCE-FE24-4253-8F78-F18B1F6134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