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50388"/>
        <c:axId val="26548634"/>
      </c:barChart>
      <c:catAx>
        <c:axId val="45050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48634"/>
        <c:crosses val="autoZero"/>
        <c:auto val="1"/>
        <c:lblAlgn val="ctr"/>
        <c:lblOffset val="100"/>
        <c:noMultiLvlLbl val="0"/>
      </c:catAx>
      <c:valAx>
        <c:axId val="265486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50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85E-F15F-49F5-9D71-7BD539A0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BB2-77F0-45F2-90A4-ED4E1C7B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CD9-774A-4F38-B735-66EDFBEE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50C0-6EB2-4EFF-984F-516E9342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CA4-F42B-4E5D-AC28-C88F1E55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25C5-D473-4D88-88B4-76524957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B29-DE88-485A-9818-F094FE9B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57D-B11E-444C-8256-26FB7384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5B4-8BF8-4123-9578-41EFAFFC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1FC-1AC8-48B8-A4B2-227AA9BC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325-746E-4524-A076-7C2E914D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696-1EFB-401A-83D1-1507D90E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B41CB-AE96-42BE-9DCF-06691247B0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