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58457"/>
        <c:axId val="54071343"/>
      </c:barChart>
      <c:catAx>
        <c:axId val="26058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71343"/>
        <c:crosses val="autoZero"/>
        <c:auto val="1"/>
        <c:lblAlgn val="ctr"/>
        <c:lblOffset val="100"/>
        <c:noMultiLvlLbl val="0"/>
      </c:catAx>
      <c:valAx>
        <c:axId val="54071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58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0F6-9155-4135-B028-005EE86F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391-48A9-47EF-AB4D-62480817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DC2-F188-4621-ABFC-B396E5D2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FE5-5435-4131-890B-02F4B764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28B-9031-434C-A865-748A34D5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58E-AC6B-4099-9B6F-FB431671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699-00BC-4A31-88E9-E2C92134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FFA-6D0D-4DB4-B440-1AE14067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88C-0115-427D-B1DA-F0094DD8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34D-7A91-4410-A6CA-2B2CD136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335-ABDB-4A97-8BE7-F8D2A846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276-8CA5-4663-B8D3-6A8B2FF8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2B0C0-03EF-4F81-964B-F60361D925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