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60459"/>
        <c:axId val="99809484"/>
      </c:barChart>
      <c:catAx>
        <c:axId val="60460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09484"/>
        <c:crosses val="autoZero"/>
        <c:auto val="1"/>
        <c:lblAlgn val="ctr"/>
        <c:lblOffset val="100"/>
        <c:noMultiLvlLbl val="0"/>
      </c:catAx>
      <c:valAx>
        <c:axId val="99809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60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1886-B513-43D1-8084-DBA9363D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37BF-5354-4001-946D-F85ED9E4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A5A-3E9D-4B6C-A589-020D710F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47BE-976C-4836-A473-4DED0814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E82-B404-4DE7-811B-5D8DB294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CC1-B4A3-470A-966B-FB04E4F1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3A36-968E-45C4-A82F-5015DA2D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230-F37D-4588-B85D-06179659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A4D-61CB-4399-9811-5050BA7A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DE5-D1C8-427D-9040-E04731B0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381-E872-4CB8-A29A-8B4AF11A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153-7763-45EC-BEBF-647047F9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86F06-3901-4420-A3CE-9D017890E4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