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20016"/>
        <c:axId val="82159432"/>
      </c:barChart>
      <c:catAx>
        <c:axId val="81200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159432"/>
        <c:crosses val="autoZero"/>
        <c:auto val="1"/>
        <c:lblAlgn val="ctr"/>
        <c:lblOffset val="100"/>
        <c:noMultiLvlLbl val="0"/>
      </c:catAx>
      <c:valAx>
        <c:axId val="821594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200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300A-D123-4FF8-BC0B-915C991C1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4CAD-2572-4E8C-9177-D1978F41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1C8B-EB06-44F0-9166-0E7BD5FDF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66EF-4BC7-4FA3-8F3E-4497BA341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AAD8-26F9-42FD-A66E-246860D4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72F4-044B-4517-82C7-9684B6AD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4656-0077-4EF0-AA17-0AFB9463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2E72-3D4C-4B42-9A65-86B4AF7F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AD11-91E3-46B9-90FC-45C5704F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A6C3-F998-493C-8880-F2DA2706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A1FD-8619-4334-8C9B-AB7B7DBD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2B34-F8C3-49B7-9583-6CEC682E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51A78-0962-45FA-9910-1B225CD790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