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51519"/>
        <c:axId val="54603399"/>
      </c:barChart>
      <c:catAx>
        <c:axId val="372515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03399"/>
        <c:crosses val="autoZero"/>
        <c:auto val="1"/>
        <c:lblAlgn val="ctr"/>
        <c:lblOffset val="100"/>
        <c:noMultiLvlLbl val="0"/>
      </c:catAx>
      <c:valAx>
        <c:axId val="54603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515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459-79C7-4F4C-9188-1E98E737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3F8-FF97-4AF6-8A8E-7111410A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B28-70F1-42F5-859D-D00D3584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0DE-D6B4-477A-A10E-009A111D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ECC-E575-4AD3-A7A2-0476985B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571-0194-49B4-88B7-AC1191D0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33E-BF3F-47A4-A299-E0A31CBA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A32A-E000-4C60-BA4C-13EAC6CE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84A-A23F-4C42-8198-2ECDE6BE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ABE-9010-48A8-9365-51A4F80E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0F1-7814-4AB1-975F-603A532D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37E4-BDAD-4C9C-8CAF-D57A1730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9D712-91C0-480B-A9FB-AD337AB0B9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