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92877"/>
        <c:axId val="55998552"/>
      </c:barChart>
      <c:catAx>
        <c:axId val="49492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98552"/>
        <c:crosses val="autoZero"/>
        <c:auto val="1"/>
        <c:lblAlgn val="ctr"/>
        <c:lblOffset val="100"/>
        <c:noMultiLvlLbl val="0"/>
      </c:catAx>
      <c:valAx>
        <c:axId val="55998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92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569-040F-45E8-BBF4-9EAFB4D6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432-78F4-4BD0-8103-36472428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1D8-B1AE-486F-A39B-4BB0A7F0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DB5-7654-4C7A-B777-9D3C3380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AAB-BA32-4EF5-BC61-410193A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F61-836F-4A78-A61E-EBA022E4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01F-88DA-49C6-8180-1B17CDE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509-869B-4DB0-8A90-45040F0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410-A4ED-4C6C-8662-EE95ABAF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4F8-2BE2-4A5A-B7BB-4E875AD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C06-E72A-4589-807B-C554F16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F55-1FBA-4F12-B73E-AAC8C75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3796B-8B02-43E8-8383-8B60DF410B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