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78432"/>
        <c:axId val="26452160"/>
      </c:barChart>
      <c:catAx>
        <c:axId val="36778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52160"/>
        <c:crosses val="autoZero"/>
        <c:auto val="1"/>
        <c:lblAlgn val="ctr"/>
        <c:lblOffset val="100"/>
        <c:noMultiLvlLbl val="0"/>
      </c:catAx>
      <c:valAx>
        <c:axId val="26452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78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B46-496B-4A4A-A4D0-B0568F24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C7B-0853-454B-8676-6D23A8FE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9DE-7813-489D-BF76-68F0C1F6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304-C1F7-4F42-AAC0-DD22210A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FD7-C824-4A52-97A4-662631A6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E09-21D6-4919-820C-1C809491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AFC-2D04-4E9E-A3B3-398C2465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38E-7409-406B-9978-30A12D4D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F53-7ECA-4D99-923E-DB87315F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943-565E-4BCE-9663-0EE0B1E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BED-7960-40C0-B8FE-7934E2B7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68D-3C8A-4CB6-9C3D-0E29EEA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44B94-3D03-4B9A-8120-2B3C1251E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