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03321"/>
        <c:axId val="86741790"/>
      </c:barChart>
      <c:catAx>
        <c:axId val="81403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41790"/>
        <c:crosses val="autoZero"/>
        <c:auto val="1"/>
        <c:lblAlgn val="ctr"/>
        <c:lblOffset val="100"/>
        <c:noMultiLvlLbl val="0"/>
      </c:catAx>
      <c:valAx>
        <c:axId val="86741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03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C47-5652-41E2-939E-285224F7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61D-9AD9-48D6-8F13-B6CA8B11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F8E-BE30-4153-99CD-ADEFDE7E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B9A-1E5B-4B93-B85C-257FF459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4FC-DEA9-4302-8158-5693F199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631-FA7F-4145-A89F-9DD7F82E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746-7DAA-48A4-AB22-DF2FAFD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003-791C-4636-8766-87250CC4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0B3-0C04-4B92-A6F8-00198AE3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DB3-A195-44B2-A871-0D6CD189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7B8-57AB-4B68-B0B0-1955D55E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8B9-9EEC-4F09-B8BC-CB6A799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0C095-B265-4E5B-9D03-3C9146D762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