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976176"/>
        <c:axId val="36942084"/>
      </c:barChart>
      <c:catAx>
        <c:axId val="189761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42084"/>
        <c:crosses val="autoZero"/>
        <c:auto val="1"/>
        <c:lblAlgn val="ctr"/>
        <c:lblOffset val="100"/>
        <c:noMultiLvlLbl val="0"/>
      </c:catAx>
      <c:valAx>
        <c:axId val="369420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761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D34A-6F80-44DA-8525-A0829826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23FD-9C7D-4DE4-BFB4-960F48D6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2FCE-4D5F-4955-84D9-758E21358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91BF-16DA-45F1-B551-14ADD30F7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285F-17FC-4C7C-A718-134B4085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6B4D-BF65-4FF5-A1B9-414CB0F1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4143-BA7F-4B0C-9EA6-EC28E09F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8BAF-B520-4417-820C-CDF3A4D1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E7AB-290F-4111-AFD7-4C25726D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4549-AA45-4809-90A8-90C50C1A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43CE-BE04-46E6-A102-9F6E9DD0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100A-C44C-413D-AD10-0AC8CC08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98480-9B48-412C-ADD8-C7BEDBED46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