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63421"/>
        <c:axId val="66956145"/>
      </c:barChart>
      <c:catAx>
        <c:axId val="60663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6145"/>
        <c:crosses val="autoZero"/>
        <c:auto val="1"/>
        <c:lblAlgn val="ctr"/>
        <c:lblOffset val="100"/>
        <c:noMultiLvlLbl val="0"/>
      </c:catAx>
      <c:valAx>
        <c:axId val="6695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3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84E-60DD-4D98-8744-E87012E1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D23-1AC2-43C7-A402-3B424E5F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E72-150B-4847-89D9-2D831D89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4D3-B213-4317-81BC-AAB3C5A7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D77-941A-4886-BACE-0E3E7AB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C1E-7EC1-4266-BC4C-D0F4ECA6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B10-FCF5-4482-9875-FFB03D39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FA1-1A9B-454A-B314-3AC9B81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96A-015B-4289-9C97-7FD143CB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FD6-DF88-4785-814A-72CD8E74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C40-AAF5-4AA7-AEE4-0E28A9C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247-7A33-4C80-819A-F2BA8C40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28909-B31E-4449-BFF0-E90C10835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