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48634"/>
        <c:axId val="5157560"/>
      </c:barChart>
      <c:catAx>
        <c:axId val="27848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7560"/>
        <c:crosses val="autoZero"/>
        <c:auto val="1"/>
        <c:lblAlgn val="ctr"/>
        <c:lblOffset val="100"/>
        <c:noMultiLvlLbl val="0"/>
      </c:catAx>
      <c:valAx>
        <c:axId val="5157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48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F5D-7317-4858-A6AB-C919727A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AA7-5F35-4B84-9865-CE9CC8D2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ECC-4D25-4F10-A762-6AD5D397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A53-AF1E-4AD3-BA4B-7919D4EF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3C1-DCF1-4DB6-8BEC-010B75C4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477-3CF0-4235-ADAC-46AD0D23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BF6-2D08-4C4A-BE97-4F6ED48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94A-7382-4B0D-9B55-943F1781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5FE-CA35-4E85-981F-933FF78C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FEA-1281-491C-BBF0-66857E9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B76-D5C0-4A4C-A029-A9875ED9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BC6-3C69-4BE0-A6A0-4A399C88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C5C9E-DE78-4114-B45E-751EBA5D98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