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74202"/>
        <c:axId val="18435659"/>
      </c:barChart>
      <c:catAx>
        <c:axId val="96174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35659"/>
        <c:crosses val="autoZero"/>
        <c:auto val="1"/>
        <c:lblAlgn val="ctr"/>
        <c:lblOffset val="100"/>
        <c:noMultiLvlLbl val="0"/>
      </c:catAx>
      <c:valAx>
        <c:axId val="18435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74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34C-6884-4493-A09E-F4CFCBA4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499-58D5-44BF-A69E-FA0C0C39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300-DC2E-4EF0-B71E-CDEA4A72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908-E3F6-4412-8CF5-3D8FC0E0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66D-350E-4379-9397-ACF8DEF1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0EE-94D0-4947-9785-41586A45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76F-E570-45E7-A959-4B1B25F9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DD7-4584-427B-90C2-3919F85A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FF6-E5F6-4529-B065-CB9F95EF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DFE-22E0-4AEE-A2C7-A1D4AA62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13D-FD2F-4E66-8323-C691D780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311-00A9-4765-9505-CF4BF5D9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DCCC8-C76B-4535-995F-7BF7C7F7B5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