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50446"/>
        <c:axId val="77119438"/>
      </c:barChart>
      <c:catAx>
        <c:axId val="86650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19438"/>
        <c:crosses val="autoZero"/>
        <c:auto val="1"/>
        <c:lblAlgn val="ctr"/>
        <c:lblOffset val="100"/>
        <c:noMultiLvlLbl val="0"/>
      </c:catAx>
      <c:valAx>
        <c:axId val="77119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50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3A0-D5EE-4594-B724-FE3D154E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55F-AB24-4D40-BD5F-7C9DB3AA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352C-8AD1-4D92-925D-41C6163A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EF10-484C-46FF-B370-37694738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DBC-7BEB-4475-BCF5-D5C3BCDA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8318-1800-4209-9DE6-14B5F020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A4C-8053-4337-BE7C-23B97668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F6E-9BC2-45F8-93F4-DA3F31AA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BDD-64AF-4F2D-AB11-3BDA52A6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208-942D-4222-B8BD-DB0E1206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8C6-2078-4E42-8610-26547796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78D-901A-4CE2-A736-D31E27E1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85FF5-8222-4674-95FF-D44C11E466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